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B4B-22E0-4980-BC90-F4A52A4B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052-3CA7-4A4D-AAB8-0B869BC0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8B4-9E29-4E95-B593-9585A3A2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B7A-743D-4832-99A5-0C24ECCD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0FF-3020-484C-8995-225C1C9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196-7DAD-4920-804E-83009E9D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243-2107-4FE5-A5FE-8F3CC77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50B-9963-499A-B24E-8883B165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3A3-8367-4A6D-B0B7-AF4503D7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E21-13C2-41EB-BB88-6BE5EE6A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FDB-A108-4A64-BC8B-95F57F5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6E1-BD10-4D73-A293-06F57B6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B6E-EF38-4812-B4B8-BF5B0F936C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52280"/>
            <a:ext cx="929628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连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wh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时间从句时，通常译为“当…时候”。此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nd t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was working in the garden when I suddenly felt the pain in my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Frank was about to leave when he noticed the letter lying on the fl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e were doing our homework when the light went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3:29:47Z</dcterms:created>
  <dc:creator>zhangjunguang</dc:creator>
  <dc:description/>
  <dc:language>en-US</dc:language>
  <cp:lastModifiedBy>zhangjunguang</cp:lastModifiedBy>
  <dcterms:modified xsi:type="dcterms:W3CDTF">2003-08-06T13:39:23Z</dcterms:modified>
  <cp:revision>2</cp:revision>
  <dc:subject/>
  <dc:title>PowerPoint 演示文稿</dc:title>
</cp:coreProperties>
</file>